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22.jpeg" ContentType="image/jpeg"/>
  <Override PartName="/ppt/media/image15.wmf" ContentType="image/x-wmf"/>
  <Override PartName="/ppt/media/image14.jpeg" ContentType="image/jpeg"/>
  <Override PartName="/ppt/media/image23.wmf" ContentType="image/x-wmf"/>
  <Override PartName="/ppt/media/image9.jpeg" ContentType="image/jpeg"/>
  <Override PartName="/ppt/media/image11.wmf" ContentType="image/x-wmf"/>
  <Override PartName="/ppt/media/image30.wmf" ContentType="image/x-wmf"/>
  <Override PartName="/ppt/media/image33.jpeg" ContentType="image/jpeg"/>
  <Override PartName="/ppt/media/image32.wmf" ContentType="image/x-wmf"/>
  <Override PartName="/ppt/media/image7.wmf" ContentType="image/x-wmf"/>
  <Override PartName="/ppt/media/image20.jpeg" ContentType="image/jpeg"/>
  <Override PartName="/ppt/media/image34.wmf" ContentType="image/x-wmf"/>
  <Override PartName="/ppt/media/image29.jpeg" ContentType="image/jpeg"/>
  <Override PartName="/ppt/media/image35.jpeg" ContentType="image/jpeg"/>
  <Override PartName="/ppt/media/image27.jpeg" ContentType="image/jpeg"/>
  <Override PartName="/ppt/media/image13.wmf" ContentType="image/x-wmf"/>
  <Override PartName="/ppt/media/image36.wmf" ContentType="image/x-wmf"/>
  <Override PartName="/ppt/media/image38.png" ContentType="image/png"/>
  <Override PartName="/ppt/media/image39.jpeg" ContentType="image/jpeg"/>
  <Override PartName="/ppt/media/image40.jpeg" ContentType="image/jpeg"/>
  <Override PartName="/ppt/media/image8.wmf" ContentType="image/x-wmf"/>
  <Override PartName="/ppt/media/image31.jpeg" ContentType="image/jpeg"/>
  <Override PartName="/ppt/media/image10.wmf" ContentType="image/x-wmf"/>
  <Override PartName="/ppt/media/image12.jpeg" ContentType="image/jpeg"/>
  <Override PartName="/ppt/media/image4.png" ContentType="image/png"/>
  <Override PartName="/ppt/media/image2.jpeg" ContentType="image/jpeg"/>
  <Override PartName="/ppt/media/image25.wmf" ContentType="image/x-wmf"/>
  <Override PartName="/ppt/media/image28.wmf" ContentType="image/x-wmf"/>
  <Override PartName="/ppt/media/image37.jpeg" ContentType="image/jpeg"/>
  <Override PartName="/ppt/media/image3.jpeg" ContentType="image/jpeg"/>
  <Override PartName="/ppt/media/image24.jpeg" ContentType="image/jpeg"/>
  <Override PartName="/ppt/media/image1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3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4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83CC-ED67-4B1F-969C-9A121901C7DC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5E93-37D6-4F44-A797-B948081E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18A-DA5D-44FB-ABEB-B27AF491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74FE-EA2C-4511-B6B0-CE5E098F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BCD2-6B9E-4D57-96FC-4B5A1148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7613-82DE-4F89-A811-7D147EA0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6E41-3027-4A8C-9166-E5F0866F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884B-E304-4576-A97F-8C0AE91E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81B9-0DDF-4170-8C4D-8DDB7575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A733-DD0F-4D42-9E16-68D6CCDD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AF6A-9447-4CF7-803F-8B90E116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A1A3-CC55-45ED-8821-BD6EEDC5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8A87-A3FB-4ED5-BB4A-43786750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9C25-76B6-4A09-9BDB-1B3E3108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C7CD-258A-41AA-AA18-53E5FDA4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0697-DFEF-40F4-BAF1-0D4E92E6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237B-684F-469A-9566-8F596296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600A-B307-4200-B7A1-4F92A7066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DCFAA-D411-4F0F-A6CA-19AFBF38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92F33-3309-41CC-949E-FA454297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83417-1AFF-4F38-B4AC-177C1481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D694C-CE90-4291-9DD5-D6E0194B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B9589-42E3-476D-8A74-359BF2B0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9EF8-243B-46D0-82BB-5E0762B9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4E83B-03F7-4143-BBB2-01D03292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2D485-A7E4-4B47-B046-1C350E6D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9ABB7-5A17-4F7F-80F0-01D0FD12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CF168-CD63-433D-BD1B-EAD93CED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C5B02-F498-4133-8BBA-530725C5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80A89-E4B0-4185-A8E5-6B411F39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A6108-9835-4E78-AF25-EE7CEB97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14C23-9FDA-4236-9459-0397EC16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7DC91-6DE9-4D4A-85CB-F68AB129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77C47-C439-4C42-AEC1-E7F1BFB2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6386-99C4-4ABE-8B5A-C7CD05AE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96CFE-9119-4020-A23D-86F84CD0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4D26E-C66A-4BA0-BA09-060CF864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A1D4E-5B9E-4532-BB20-E4D82A0D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108B3-401D-4A32-8D8B-F510D849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85710-33B4-4D1C-B428-92CD7BFB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1DBB3-263A-485F-BC8E-609BDDA4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55585-A857-4A7A-B93C-AF6AF146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0AFCE-34C6-475A-ADB9-43748366D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78710-2C80-48FD-8FCA-DD71E54F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843F6-1CF9-4E6C-820E-49E34FC0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5ABF-849E-45F0-8ADF-6F633D01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A6013-DD59-4E60-9989-59DF13FF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B5464-8D9B-4B14-B660-43428245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EAEA4-F269-43EA-8473-85A84E73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6B7F8-627F-4847-B27F-6C41F307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5A884-DB24-4E04-A5CB-7FB4A1F3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D50CD-C742-40A1-A895-45557964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2413E-9985-44EC-8E56-638FE344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88EB6-6558-4E83-B0EC-0011D59F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8774F-EDA1-41DD-A043-BAEE15CF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4F261-D156-462E-AD38-E98AFE8C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D18D-0E28-4BC0-92C7-14FC15A4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F53FD-98C9-4FB6-AF9C-5A120280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844A5-904D-45B6-9233-844EB7A3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1B7AE-FE8E-4173-A92F-9467C6DF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31BA9-436F-4943-9E71-5B9BD67D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A2DDD-9B44-4B3D-9BE0-F4459057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17A3E-7B79-43B7-AD3F-15A3B641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88E8F-02EA-4661-93ED-A7630887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A257E-2409-48F2-A8DD-EE6CE2CF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EC3F8-28F0-4C35-8EB1-5849D93A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4169D-F800-4CCD-8DEC-0E8C8EB4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525A-0DC7-4940-AD6F-E88CE2C8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E6B22-2DEC-4AE4-8DB3-C6660E88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7560B-DDFB-47A5-B13C-CEB58B27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F0CCB-9025-42FD-A758-9CDBF764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F2000-635A-431A-A9E5-88960C48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70B64-1B1E-4780-8C10-29B18D37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99B4E-AB0D-4C0C-95B2-5DBE2AA8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031A1-4010-4B3E-A9C4-F7266329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3967F-6863-49F9-AE41-099D1D3C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A7DD8-55F5-474F-A7A9-09B375C2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61655-26FF-464C-8D8A-BD2D8D65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F322-FB3E-4CB9-977D-1121988C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A5038-D567-49FD-89C4-F83B4015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7A158-D127-4471-ABCB-1461233D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84916-29B7-4FB1-ABEB-0591419E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21DA0-1CB8-47B3-B6DC-3ADC3005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D2D06-FB36-4677-BD3C-0015323C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4A3D-369F-4F70-9E68-4CF20454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47E8-4273-49DB-9952-7D4A83589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8C6D-B76F-4942-BF93-6A7F30712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0B80-103A-450E-9ECF-6EA7211BC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D303-3736-4EF4-AF36-CF023631D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DDEE-4B8F-4B06-9BB0-4424D2E89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A381-009F-413C-A7F4-F76B74A65F8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7F40-A600-487D-8B2D-0E7F6F32F1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6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36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7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383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5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1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392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99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00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407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415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7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424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6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431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3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01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3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436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7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0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2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6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0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4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8" dur="500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3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2" dur="500"/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07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08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17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8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30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1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3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338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9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34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35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5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25:37Z</dcterms:modified>
  <cp:revision>1180</cp:revision>
  <dc:subject/>
  <dc:title>Sin título de diapositiva</dc:title>
</cp:coreProperties>
</file>